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38.png" ContentType="image/png"/>
  <Override PartName="/ppt/media/image8.jpeg" ContentType="image/jpeg"/>
  <Override PartName="/ppt/media/image33.png" ContentType="image/png"/>
  <Override PartName="/ppt/media/image35.png" ContentType="image/png"/>
  <Override PartName="/ppt/media/image36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3320" y="531360"/>
            <a:ext cx="35496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352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FA2-0D67-488A-8341-4D466EDEA40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82F-51D2-41A3-A157-C321EA2C3FA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744-5939-442C-BC0F-F4AB0390C4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9D28-67D0-4A5B-8EF6-1C5D0FC2BF4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769-5186-49CF-AA69-A788089D6C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82A5-6E34-4DEE-83C1-74A78FDD13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CAF-523D-4AF7-BC96-C74EA39B557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F972-C409-4C4B-B527-F63E0CEDD12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EE3-1259-49C3-A65B-646B5287F1C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0DFE-9089-47F4-94F1-AD4DB7407C9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6DEF-4345-486A-AEE6-B597984EB9A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75B7-90E3-4397-8019-FCA721169BC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2FC-A5C2-4216-93E4-D5DC9EF36F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64D-2513-405D-95B9-2558F91B737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BD1-F3F2-41FA-889E-FA0A70C307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5532-8537-46BD-AE29-745E758291B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2D7-2B94-4526-AD1B-FC26857B6A9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805-F3ED-4736-8E40-743D751A20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0E7-0A3C-4BA6-8CC2-073D0D531E7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B83B-820A-4A78-BF6D-ECB025E771A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9BC-3507-417D-B0D5-87545439747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797440" y="674388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8E8-7278-4926-BB06-FF58A2A1E9D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343320" y="531720"/>
            <a:ext cx="3549600" cy="2662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5FB-B108-4567-A43C-43462A71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E5A-86E8-42DD-9996-F5C8F6DB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4DA-1212-450B-87AD-657F6F3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C59-ABC1-4B68-B44A-C4E532D6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D1A-CFD1-47E3-896F-76A496E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002-95F5-47A0-9C81-9F81EAB4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522-8D11-4919-997C-C725361F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A65-5890-4718-BDE1-52B01D1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EB3-4EC2-472D-9BDC-3DCE69A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CF8-31BD-4F73-9F77-E9AB1D7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541-C57D-4A1D-8761-8306845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659-B0D9-4F78-A2BC-CB5F030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99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C736-240C-4D1B-BDFD-B62CE5AF54B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«  Σχεδιασμός χημικών ενώσεων με λιγότερη τοξικότητα  »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428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υνηγοπούλου Βασιλικ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σιλογιάννης Δημήτρ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ΘΕΣΣΑΛΟΝΙΚΗ,    ΜΑΡΤΙΟΣ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IMITRED"/>
          <p:cNvPicPr/>
          <p:nvPr/>
        </p:nvPicPr>
        <p:blipFill>
          <a:blip r:embed="rId1"/>
          <a:stretch/>
        </p:blipFill>
        <p:spPr>
          <a:xfrm>
            <a:off x="250920" y="333360"/>
            <a:ext cx="107640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789200" y="2440080"/>
            <a:ext cx="1790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789200" y="2440080"/>
            <a:ext cx="180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421360" y="2440080"/>
            <a:ext cx="70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0"/>
          <p:cNvSpPr/>
          <p:nvPr/>
        </p:nvSpPr>
        <p:spPr>
          <a:xfrm>
            <a:off x="1476360" y="62064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«ΔΙΔΑΚΤΙΚΗ ΤΗΣ ΧΗΜΕΙΑΣ ΚΑΙ ΝΕΕΣ ΕΚΠΑΙΔΕΥΤΙΚΕΣ ΤΕΧΝΟΛΟΓΙΕ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1763640" y="1773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Χημεία και Καθημερινή Ζωή. Η Πράσινη Προσέγγ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258920" y="333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ια πρώτ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πάντησ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της Πράσινης Χημε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55640" y="1125360"/>
            <a:ext cx="777708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αγωγή με τις ίδιες επικίνδυνες χημικές ουσίες (1-ναφθόλη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φωσγένιο, ισοκυανικό μεθύλιο) αλλά χωρίς αποθήκευσή του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με χρήσ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s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ικατάσταση της χρήσης του ισοκυανικού μεθυλίου με επίδραση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φωσγενίου σε 1-ναφθόλη και επίδραση μεθυλαμίνης στο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χλωροφορμικό εστέρα που προκύπτε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4553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908000" y="1159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 Πράσινη λύ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4508640"/>
            <a:ext cx="77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Chaudhar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.al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ισήγαγαν μία μέθοδο παρασκευής καρβαμιδικών προϊόντων με επίδραση μεθυλαμίνης ή Ν,Ν΄-διμεθυλοουρίας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παρουσία ενός οξειδωτικού παράγοντα και μιας μονοαλκοόλ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39640" y="2637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θανή λύση αποτελεί η διαδικασία «παραγωγής αλκυλιωμένων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καρβαμιδίων» με χρήση κατάλληλου καταλύτη και συνθήκες που δε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παράγουν τοξικά προϊόντ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84360" y="9079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00% ασφάλεια της διαδικασίας παραγωγής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ary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α έχουμε με πλήρη απουσία τοξικών ουσιών σε όλη τη διαδικασία παραγωγή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755640" y="2852640"/>
            <a:ext cx="79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αταλύτης μπορεί να είναι μια ένωση από μια μεγάλη κατηγορία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ταλυτών της ομάδας του παλαδί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54200" y="400536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οξειδωτική καρβονυλίωση μπορεί να πραγματοποιηθεί σε ένα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εύρος θερμοκρασιών από 8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έχρι 3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με προτιμητέο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το διάστημα από 12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έχρι 25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55640" y="544500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η συγκέντρωση του της μεθυλαμίνης ή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΄-διμεθυλουρία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επιλεγεί προσεκτικά, η διαδικασία μπορεί να οδηγήσει σε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απόδοση της τάξης του 90% έως 9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908000" y="2541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 Πράσινη λύ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324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55640" y="404640"/>
            <a:ext cx="748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Υπεροξείδιο του υδρογόν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ράσινη παραγωγή ενός </a:t>
            </a:r>
            <a:br>
              <a:rPr sz="2000"/>
            </a:b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ράσινου αντιδραστηρ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"/>
          <p:cNvPicPr/>
          <p:nvPr/>
        </p:nvPicPr>
        <p:blipFill>
          <a:blip r:embed="rId1"/>
          <a:stretch/>
        </p:blipFill>
        <p:spPr>
          <a:xfrm>
            <a:off x="2484360" y="2565360"/>
            <a:ext cx="3811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87280" y="3650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έθοδοι οξείδωσης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επιλογή οξειδωτικ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55640" y="981000"/>
            <a:ext cx="7848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την αντίληψη της πράσινης χημεία, έχει τεράστια σημασία η ανάπτυξη εναλλακτικών μεθόδων οξείδωσης οι οποίε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332000" y="2133720"/>
            <a:ext cx="7488000" cy="43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ούν πιο καθαρά οξειδωτικά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λαχιστοποιούν τα απόβλητα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γουν μόνον καθαρά δηλ. ελάχιστα ή καθόλου παραπροϊόντ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χουν μεγάλη χημική απόδοση (οικονομία ατόμο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γάλη περιεκτικότητα σε περιεχόμενο οξυγό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96"/>
          <p:cNvSpPr/>
          <p:nvPr/>
        </p:nvSpPr>
        <p:spPr>
          <a:xfrm>
            <a:off x="1187280" y="365040"/>
            <a:ext cx="698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εριεκτικότητα οξειδωτικών σε Ο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9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7085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71640" y="1773360"/>
            <a:ext cx="72723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Όμω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πολύ λίγες αντιδράσεις μπορούν να μεταφερθούν στο   υπόστρωμα και τα δύο άτομα οξυγόνου (Περιεκτικότητα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ις πιο πολλές αντιδράσεις έχουμε μεταφορά ενός ατόμου οξυγόνου στο υπόστρωμα και το σχηματισμό ενός μορίου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(Περιεκτικότητα 5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νεργοποίηση του 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ως καταλύτη απαιτεί ακραίες τιμές θερμοκρασίας/πίεσ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547640" y="69228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Το Ο</a:t>
            </a:r>
            <a:r>
              <a:rPr b="1" i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 είναι το ιδανικό οξειδωτικό προς χρήση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5280" y="1341360"/>
            <a:ext cx="849780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χει περιεκτικότητα 47% σε ενεργό οξυγόνο και απελευθερώνει ένα μόριο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χρειάζεται ακραίες συνθήκες για να δράσ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σχετικά φθηνό προϊό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άρχει μεγάλη εμπειρία από τη χρήση του στη βιομηχανία (χαρτί, υφάνισμες ίνες, απορρυπαντικ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11280" y="4762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 Η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87280" y="177840"/>
            <a:ext cx="676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ιομηχανική παραγωγή του Η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3"/>
          <p:cNvSpPr/>
          <p:nvPr/>
        </p:nvSpPr>
        <p:spPr>
          <a:xfrm>
            <a:off x="1042920" y="836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ξείδωση ανθρακινόν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64" descr=""/>
          <p:cNvPicPr/>
          <p:nvPr/>
        </p:nvPicPr>
        <p:blipFill>
          <a:blip r:embed="rId1"/>
          <a:stretch/>
        </p:blipFill>
        <p:spPr>
          <a:xfrm>
            <a:off x="971640" y="1522440"/>
            <a:ext cx="731664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6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7219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87280" y="177840"/>
            <a:ext cx="676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ιομηχανική παραγωγή του Η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16000" y="836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ξείδωση τετραϋδρο-ανθρακινόν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367760" cy="18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7219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26920" y="1197000"/>
            <a:ext cx="7560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παρούσα εργασία αναφέρονται περιπτώσεις όπου η επιλογή άλλων παραγωγικών συνθηκών μπορε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να οδηγήσει στην αποτροπή ατυχημάτω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να παράγει καθαρότερα και οικονομικότερα προϊόν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να αναδείξει καινούργιους δρόμους για την επιστήμη με </a:t>
            </a:r>
            <a:br>
              <a:rPr sz="1800"/>
            </a:b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ταυτόχρονο σεβασμό στο περιβάλλον και τον άνθρωπ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55640" y="476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λεονέκτημ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αυτής της διαδικασίας είναι η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υψηλή απόδοσ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9640" y="1628640"/>
            <a:ext cx="7991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μως η διαδικασία αυτή παρουσιάζει κ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ιονεκτήματ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αντιδράσεις υδρογόνωσης και οξείδωσης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δεν παρουσιάζουν μεγάλη αποδοτικότητ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πιρύπανση του Η</a:t>
            </a:r>
            <a:r>
              <a:rPr b="0" i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i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τον οργανικό διαλύτη κατά την ανάκτηση με υγρή εκχύλι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αρύτερος εξοπλισμός και υψηλότερες θερμοκρασίε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αυτές που κινητικά απαιτούν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δυσκολία στη ρύθμισης της αναλογίας Η</a:t>
            </a:r>
            <a:r>
              <a:rPr b="0" i="1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/Ανθρακινόν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οδηγεί στο σχηματισμό παραπροϊόν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619280" y="1159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ράσινη αντιμετώπι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76500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Άμεση σύνθεση του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από υδρογόνο και οξυγόνο, παρουσία καταλύτ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32000" y="5392800"/>
            <a:ext cx="6697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ερμοδυναμικά έχουμε ανεπιθύμητες αντιδρά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μίγματα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/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εκρηκτ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189400" cy="3121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1690560" y="4933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Μειονεκτήματ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76364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αλύτη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x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765000"/>
            <a:ext cx="8135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ussa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water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ανακοίνωσε την κατασκευή μιας νέας παραγωγικής μονάδας για την άμεση σύνθεση υπεροξειδίου του υδρογόνου η οποία βασίζεται στη χρήση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καταλυτών τύπου NxCa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4360" y="5445000"/>
            <a:ext cx="7848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την τεχνολογία αυτή παρασκευάζονται καταλύτες, με μια μεγάλη γκάμα εφαρμογών, των οποίων τα σωματίδια είναι μεγέθους «νάνο», δηλαδή από 1 μέχρι 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8295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76360" y="4005360"/>
            <a:ext cx="712800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 μόριο υδρογόνου και ένα μόριο οξυγόνου απορροφούνται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σε δύο γειτονικά άτομα παλλαδί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ίνηση ηλεκτρονίων μέσω των ατόμων παλλαδί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μόριο του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ροσεγγίζει το 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από τα άκρ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κενό παρεμποδίζει άλλου είδους προσέγγιση 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1413000"/>
            <a:ext cx="24480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ύρο: Παλλάδι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όκκινο: Οξυγό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ο: Υδρογόν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5"/>
          <a:stretch/>
        </p:blipFill>
        <p:spPr>
          <a:xfrm>
            <a:off x="3276720" y="907920"/>
            <a:ext cx="3600360" cy="2733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08000" y="18900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αλύτη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x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1778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αρασκευή του καταλύτ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5640" y="1341360"/>
            <a:ext cx="770400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ό ένα κολλοειδές διάλυμα κατάλληλου ενεργού ευγενούς μετάλλου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, Pt, Au, Ir, Os, R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υθμιστικό ιονικό πολυμερές για τη διασπορά των ατόμω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(πολυακρυλικό, πολυβενζοϊκό, πολυβινοσουλφονικό) ΜΒ 600 – 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οστηρικτικό υλικό με κρίσιμη μεγάλη επιφάνεια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(αλουμίνα, ενεργός άνθρακα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87280" y="1778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ραβείο Πράσινης Χημείας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55640" y="1341360"/>
            <a:ext cx="7704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τεχνολογί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xCa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έχει τη δυνατότητα να μειώσει σημαντικά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το κόστος του υπεροξειδίου του υδρογόνου, δημιουργώντας έτσι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ένα ανταγωνιστικό προϊόν, αυξάνοντας την αποδοχή του ω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βιομηχανικού οξειδωτικ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00000" y="3500280"/>
            <a:ext cx="7704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Και να υποκαταστήσει το ιδιαίτερα επιβλαβές χλώριο ή άλλα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χλωριούχα οξειδωτικ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00000" y="404640"/>
            <a:ext cx="74883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Πράσινοι παράγοντες λεύκανσης </a:t>
            </a:r>
            <a:br>
              <a:rPr sz="2000"/>
            </a:b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στην παραγωγή του χαρτιο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Ενεργοποιητές οξείδωσης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A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(Βραβείο Πράσινης Χημείας 1999)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581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826920" y="762120"/>
            <a:ext cx="770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πρώτη φορά το χαρτί κατασκευάζεται στην Κίνα το 200 π.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3497400"/>
            <a:ext cx="7704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ις πρώτες βιομηχανικές εγκαταστάσεις πρώτη ύλη είναι κουρέλια,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ενώ το 1860 αρχίζει να χρησιμοποιείται το ξύλ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26920" y="1913040"/>
            <a:ext cx="7921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Αγγλία η κατασκευή του χαρτιού ξεκινά το 1494, ενώ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στην Αμερική το 16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00000" y="4937040"/>
            <a:ext cx="7704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ήμερα χρησιμοποιούνται εκτός του ξύλου, φυτά και ανακυκλωμένο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χαρτ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ώτη ύλη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κυτταρίν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059280" y="18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Ιστορικά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95280" y="836640"/>
            <a:ext cx="8424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οκανίδια ή ανακυκλωμένο χαρτί διαχωρίζονται σε μεμονωμένες ίνες σε μια  διαδικασία η οποία ονομάζετ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ολτοποίησ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πολτοποίηση μπορεί να γίνει με δύο τρόπους: μηχανική και χημική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 Στη μηχανική πολτοποίηση, οι ίνες διαχωρίζονται με λειοτρίβιση του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ύλου. Αυτό οφείλεται στην παρουσία υπολειμματική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ιγνίνη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ασικού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στατικού του ξύλου το οποίο κρατά συνδεδεμένες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ς ίνες της κυτταρίνης μεταξύ του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  Στη χημική πολτοποίηση, τα ροκανίδια ή το ανακυκλωμένο χαρτί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αμιγνύεται με νερό και χημικά και θερμαίνεται μέχρι να διαχωριστούν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ίνες κυτταρίνης. Στη συνέχεια οι ίνες υπόκεινται στη διαδικασία τη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εύκανση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achin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627280" y="3222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ολτοποί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19708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εύκανση χαρτοπολτο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83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ς λεύκανση ονομάζουμε το σύνολο των διαδικασιών που αποσκοπούν στην απομάκρυνση τη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ιγνίνη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καθώς προκαλεί καφέ χρωματισμό στο τελικό χαρτί. Η αφαίρεση της λιγνίνης παράγει χαρτοπολτό με μια ελαφριά απόχρωσ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067360" cy="4944960"/>
          </a:xfrm>
          <a:prstGeom prst="rect">
            <a:avLst/>
          </a:prstGeom>
          <a:ln w="0">
            <a:noFill/>
          </a:ln>
        </p:spPr>
      </p:pic>
      <p:sp>
        <p:nvSpPr>
          <p:cNvPr id="141" name="Oval 12"/>
          <p:cNvSpPr/>
          <p:nvPr/>
        </p:nvSpPr>
        <p:spPr>
          <a:xfrm>
            <a:off x="1547640" y="2492280"/>
            <a:ext cx="648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5219640" y="1916280"/>
            <a:ext cx="6112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826920" y="476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Το μεγαλύτερο χημικό ατύχημα </a:t>
            </a: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hopal</a:t>
            </a: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 Ινδίας, 19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910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9708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εύκανση χαρτοπολτο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76360" y="1773360"/>
            <a:ext cx="69134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λεύκανση γίνεται με τη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δικασί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ft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ίδραση με αλκάλια, οξέα,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οξυγόνο κλ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κπλυση με νερ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εργασία με χλωριωμένα παράγωγ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429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ντίδραση του χλωρίου με τη λιγνίνη παράγει χλωριωμένους αρωματικούς δακτυλίους. Μεταξύ αυτών των ενώσεων είναι η 2,3,6,7-τετραχλωροδιβενζο-4-διοξίνη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D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γνωστή και με τη γενική ονομασία διοξίνη) και φουράνι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19708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ξικά κατάλοιπ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95280" y="9079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ντίδραση του χλωρίου με τη λιγνίνη παράγει χλωριωμένους αρωματικούς δακτυλίους. Μεταξύ αυτών των ενώσεων είναι η 2,3,6,7-τετραχλωροδιβενζο-4-διοξίνη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D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γνωστή και με τη γενική ονομασία διοξίνη) και φουράνι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2871720" cy="100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24000" y="3789360"/>
            <a:ext cx="377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ταραχές συμπεριφορ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θησιακά προβλή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ιωμένη ανδρική ορμό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βή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ταραχές του ΚΝ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284720" y="3933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ξικότητα του ανοσοποιητικού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συστή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υξημένος κίνδυνος καρκίν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ρατογέννε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βλήματα του θυροειδούς αδέ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95280" y="126828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έχει απαγορεύσει τη χρήση στοιχειακού χλωρίου στη λεύκανση του χαρτιού από τον Απρίλιο του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γκοσμίως όμως, το 20% του παραγόμενου χαρτιού, ακολουθεί τη μέθοδο της λεύκανσης με στοιχειακό χλώρι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 άλλο ποσοστό, περίπου το 54%, υφίσταται λεύκανση με διοξείδιο του χλωρίου (διαδικασί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F, Elementary Chlorine Free).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 μικρό ποσοστό, παράγεται με εναλλακτικές μεθόδους απαλλαγμένες από τη χρήση χλωρίου (διαδικασί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F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ly Chlorine Free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47640" y="18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ι ισχύει σήμερ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468360" y="901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ενεργοποιητέ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βασίζονται σε μακροκυκλικές δομές σιδήρ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TAML_1"/>
          <p:cNvPicPr/>
          <p:nvPr/>
        </p:nvPicPr>
        <p:blipFill>
          <a:blip r:embed="rId1"/>
          <a:stretch/>
        </p:blipFill>
        <p:spPr>
          <a:xfrm>
            <a:off x="468360" y="1700280"/>
            <a:ext cx="6362640" cy="398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Key"/>
          <p:cNvPicPr/>
          <p:nvPr/>
        </p:nvPicPr>
        <p:blipFill>
          <a:blip r:embed="rId2"/>
          <a:stretch/>
        </p:blipFill>
        <p:spPr>
          <a:xfrm>
            <a:off x="7093080" y="2421000"/>
            <a:ext cx="1447560" cy="2247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2987640" y="1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Ενεργοποιητέ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539640" y="2708280"/>
            <a:ext cx="828036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λύουν τις οξειδωτικές δράσεις του υπεροξειδίου του υδρογόνου κατά τη διαδικασία λεύκανσης του χαρτι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απαλλαγμένοι από τοξικές λειτουργικές ομάδες και δεν περιέχουν στοιχεία τα οποία να είναι επιβλαβή για την ανθρώπινη υγεί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δίδουν σε κανονικές συνθήκες θερμοκρασίας και πίεσ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26920" y="1052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ι καταλύτε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-TA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Action"/>
          <p:cNvPicPr/>
          <p:nvPr/>
        </p:nvPicPr>
        <p:blipFill>
          <a:blip r:embed="rId1"/>
          <a:stretch/>
        </p:blipFill>
        <p:spPr>
          <a:xfrm>
            <a:off x="173160" y="1413000"/>
            <a:ext cx="8791560" cy="280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11280" y="76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ηχανισμός δρά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9640" y="4581360"/>
            <a:ext cx="828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α)  Κατά τη διάλυση προσδένεται ένα μόριο νερ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β)  Το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αίρνει τη θέση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an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)  Το μόριο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χάνει ένα μόριο νερού, και το άτομο του Ο, έλκοντα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br>
              <a:rPr sz="1800"/>
            </a:b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έπεται σε ισχυρό ενδιάμεσ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39640" y="2133720"/>
            <a:ext cx="8280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αλλαγή από τη χρήση χλωρίου και χλωριωμένων παραγώγ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περιπτώσεις που δεν μπορεί να εξαλειφθεί το χλώριο, μπορεί να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διασπάσει επικίνδυνα χλωριωμένα παράγωγ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ρα με ήπιες συνθήκες (εξοικονόμηση 38,9Χ1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U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το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ξοικονόμηση 23,15 εκατομμυρίων τόνων άνθρακ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26920" y="1052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ραβείο Πράσινης Χημείας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404640"/>
            <a:ext cx="7488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JANU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Ένα νέο φάρμακο για το Διαβήτη τύπου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januvia-bottle"/>
          <p:cNvPicPr/>
          <p:nvPr/>
        </p:nvPicPr>
        <p:blipFill>
          <a:blip r:embed="rId1"/>
          <a:stretch/>
        </p:blipFill>
        <p:spPr>
          <a:xfrm>
            <a:off x="2843280" y="2205000"/>
            <a:ext cx="3714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68360" y="83664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ακχαρώδης διαβήτη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μία χρόνια μεταβολική νόσος, η οποία χαρακτηρίζεται από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ύξηση της συγκέντρωσης του σακχάρου στο αίμα (υπεργλυκαιμία)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διαταραχή του μεταβολισμού της γλυκόζη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042920" y="3213000"/>
            <a:ext cx="734544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φείλεται σε ελαττωμένη έκκριση ινσουλίνης και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καταστροφή β-κυττάρων του παγκρέατος (τύπος 1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λαττωμένη έκκριση ινσουλίνης και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ελάττωση της ευαισθησίας των κυττάρων στην ινσουλίνη (τύπος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060720" y="189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βή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84360" y="804960"/>
            <a:ext cx="79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νέες θεραπείες εστιάζουν στην αναστολή του ενζύμου Διπέπτυλο-πεπτιδάση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55640" y="2244600"/>
            <a:ext cx="79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μελέτη της αναστολής αυτού του ενζύμου οδήγησε στη δημιουργία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aglipt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I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 ένα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-αμινοξικό παράγωγ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3"/>
          <a:stretch/>
        </p:blipFill>
        <p:spPr>
          <a:xfrm>
            <a:off x="2268360" y="3838680"/>
            <a:ext cx="4081680" cy="2182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2"/>
          <p:cNvSpPr/>
          <p:nvPr/>
        </p:nvSpPr>
        <p:spPr>
          <a:xfrm>
            <a:off x="3060720" y="189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βή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95280" y="3100320"/>
            <a:ext cx="85694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ary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είναι η κοινή ονομασία της χημικής ένωσης 1–ναφθυλοκαρβαμιδικός εστέρας και ανήκει σε μια κατηγορία εντομοκτόνων γνωστών ως καρβαμίδια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amate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Χρή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λεγχος μεγάλης ποικιλίας εντόμ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καλλιέργε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ε εκτροφές ζώ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3419640" y="961920"/>
            <a:ext cx="2219040" cy="181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844720" y="18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ar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50920" y="33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ύνθεση τη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glip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507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-108000" y="33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Στάδι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32680" cy="2922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476360" y="5157720"/>
            <a:ext cx="648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πρώτο στάδιο έχει απόδοση 2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υσκολία αλκυλίωσης της χλωροπυραζίνη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χρήση της υδραζίνης δημιουργεί προβλήματα ασφαλε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11592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Στάδι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268960" cy="5344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692360" y="6093000"/>
            <a:ext cx="540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δεύτερο στάδιο έχει απόδοση 6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τάδι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43840" cy="3454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5867280" y="521820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aglip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 Πράσινη σύνθεση τη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K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[1,2,4]-Τριαζολο[4,3-α] πιπεραζινών μέσω</a:t>
            </a:r>
            <a:br>
              <a:rPr sz="1800"/>
            </a:b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χλωρομεθυλο-οξαδιαζολί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258920" y="4941720"/>
            <a:ext cx="72007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είται διάλυμα υδραζίνης (καθοριστικό αντιδραστήρι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β) Απόδοση σε τριαζόλιο 7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) Με την προηγούμενη μέθοδο η απόδοση ήταν 2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δ) Η μέθοδος αυτή έχει γενικότερη εφαρμογ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67520" cy="98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76154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189000"/>
            <a:ext cx="87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ύνθεση παραγώγων β-αμινοξέων με ασύμμετρ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δρογόνωση μη προστατευμένων εναμιν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170600" cy="242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56000" y="4797360"/>
            <a:ext cx="42433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ελικό συνθετικό σχή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566720" y="876240"/>
            <a:ext cx="66153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95280" y="1557360"/>
            <a:ext cx="8280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νεμήθηκε στ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το βραβείο Πράσινης Χημείας 2006 της ΕΡ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κάθε κιλ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aglipt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δημιουργούνται 220 κιλά λιγότερα απόβλητ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όλη της διάρκεια ζωής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aglipt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θα έχουμε λιγότερα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110 εκατομμύρια αποβλήτω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πλασιάζεται σχεδόν η απόδοση της σύνθεση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αταλύτης ανακτάται σε ποσοστό 9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411280" y="476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ποτελέσ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55640" y="250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Τοξικότητα και καθημερινή ζω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9640" y="1052640"/>
            <a:ext cx="813600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ην παρούσα εργασία ασχοληθήκαμε επίσης και με θέματα τα οποία αφορούν προϊόντα τα οποία χρησιμοποιούνται ευρέως στην καθημερινότητά μας, παρόλο που περιέχουν τοξικές ουσίες, καθώς και με εναλλακτικές μη-τοξικές προτάσεις έναντι αυτών, όπω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95280" y="2997360"/>
            <a:ext cx="7775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να πιο πράσινο μέλλον – Το τοξικό σπίτ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ες βαφές για όλα τα χρώ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ασκευή φυσικών μη-τοξικών βαφών από το ξύλ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η Φωτοχημεία – Προϊόντα ασημόσκον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α Πλαστικά σε όλα τα σχήματα και μεγέθ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– Κατεργασία ξύλ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α χαλι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αλλακτικά θερμόμετ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η-τοξικά βερνίκια νυχ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39640" y="501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εργοστάσιο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Carbide India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I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 είχε ιδρυθεί το 1969 κοντά στην πόλ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opa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ς Κεντρικής Ινδίας και παρήγαγ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εμπορική ονομασία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Carbide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για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ary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334120" cy="3825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979640" y="189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 εργοστάσιο τη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Carbide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ho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16000" y="260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έθοδος παραγωγής το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95280" y="83664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Για τη σύνθεση το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in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χρησιμοποιείται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-ναφθόλη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κα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Ισοκυανικό μεθύλ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4775400" cy="173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547640" y="4221000"/>
          <a:ext cx="5537520" cy="1914840"/>
        </p:xfrm>
        <a:graphic>
          <a:graphicData uri="http://schemas.openxmlformats.org/drawingml/2006/table">
            <a:tbl>
              <a:tblPr/>
              <a:tblGrid>
                <a:gridCol w="1384560"/>
                <a:gridCol w="1495440"/>
                <a:gridCol w="1512720"/>
                <a:gridCol w="1144800"/>
              </a:tblGrid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ρόπος εισόδο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όσ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ειραματόζω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</a:t>
                      </a:r>
                      <a:r>
                        <a:rPr b="1" lang="el-GR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C</a:t>
                      </a:r>
                      <a:r>
                        <a:rPr b="1" lang="el-GR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ό το στόμ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 διάλυμα, μία δόσ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ουραίο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mg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 εισπνο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τμοί (4 ώρε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ρουραίο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 mg/m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πό το δέρμ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ωρίς αραίωσ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ουνέλ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 mL/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11"/>
          <p:cNvSpPr/>
          <p:nvPr/>
        </p:nvSpPr>
        <p:spPr>
          <a:xfrm>
            <a:off x="468360" y="36450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οξικότητα ισοκυανικού μεθυλί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790560"/>
            <a:ext cx="7920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ά τη διάρκεια της νύκτας της 3ης Δεκεμβρίου του 1984, μεγάλε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ποσότητες νερού εισήλθαν στη δεξαμενή 610, η οποία περιείχε 42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τόνους ισοκυανικού μεθυλί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ντίδραση που πραγματοποιήθηκε ανέβασε τη θερμοκρασία πάνω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από 20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υψηλή θερμοκρασία και η μεγάλη πίεση ενεργοποίησαν τις βαλβίδε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εκτόνωσης, με αποτέλεσμα να διοχετευθούν στην ατμόσφαιρα μεγάλε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ποσότητες ισοκυανικού μεθυλί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ολογίζεται ότι απελευθερώθηκαν στην ατμόσφαιρα περίπου 30 με 40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τόνοι αυτής της ένωσης σε μια περίοδο 3 ωρώ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ντίδραση επιταχύνθηκε λόγω της παρουσίας σιδήρου στους σωλήνε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οι οποίοι δεν ήταν ανοξείδωτοι για λόγους οικονομ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700360" y="18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 ατύχη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39640" y="907920"/>
            <a:ext cx="828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ατύχημα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opal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χαρακτηρίζεται ως το μεγαλύτερο χημικό ατύχημα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στην ιστορία της ανθρωπότητας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20.000 ήταν οι άνθρωποι που επηρεάστηκαν από το τοξικό αέριο, εκ των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οποίων 200.000 ήταν κάτω των 15 ετών, ενώ 3.000 ήταν έγκυοι γυναίκε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πιστοποιημένοι θάνατοι ήταν 3.928, αν και ανεξάρτητες οργανώσει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υπολογίζουν τους νεκρούς σε πάνω από 8.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σσότεροι από 10.000 πέθαναν από ασθένειες που σχετίζονται 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με το τοξικό αέρι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ίπου 100.000 με 200.000 άνθρωποι υπέστησαν μόνιμες βλάβες της</a:t>
            </a:r>
            <a:br>
              <a:rPr sz="1800"/>
            </a:b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υγείας του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700360" y="18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ο ατύχη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1042920" y="333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α αίτια του ατυχή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58920" y="1268280"/>
            <a:ext cx="68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ήθηκαν χημικές ουσίες μεγάλης επικινδυνότητα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ισοκυανικό μεθύλι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θηκεύθηκαν οι τοξικές αυτές ουσίες σε μεγάλες δεξαμενέ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αντί σε πολλές μικρ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θανολογείται επίσης η παρουσία υλικών διάβρωσης τω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ωληνώσεων (κακή συντήρηση των εγκαταστάσεω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στοχία πολλών συστημάτων ασφαλείας (λόγω κακή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υντήρησης και ανεπαρκών κανονισμώ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53:01Z</dcterms:created>
  <dc:creator>ΒΑΣΙΛΙΚΗ ΚΥΝΗΓΟΠΟΥΛΟΥ</dc:creator>
  <dc:description/>
  <dc:language>en-US</dc:language>
  <cp:lastModifiedBy>Dim</cp:lastModifiedBy>
  <dcterms:modified xsi:type="dcterms:W3CDTF">2012-01-29T19:26:53Z</dcterms:modified>
  <cp:revision>66</cp:revision>
  <dc:subject/>
  <dc:title>«  Σχεδιασμός χημικών ενώσεων με λιγότερη τοξικότητα  » </dc:title>
</cp:coreProperties>
</file>